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27.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8.png" ContentType="image/png"/>
  <Override PartName="/ppt/media/image1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15.jpeg" ContentType="image/jpeg"/>
  <Override PartName="/ppt/media/image14.png" ContentType="image/png"/>
  <Override PartName="/ppt/media/image3.png" ContentType="image/png"/>
  <Override PartName="/ppt/media/image17.jpeg" ContentType="image/jpeg"/>
  <Override PartName="/ppt/media/image26.png" ContentType="image/png"/>
  <Override PartName="/ppt/media/image25.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D53E-92CB-452C-B9A6-3C684AF81DC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specs on p. 9 – 13, Writing standards on p. 44 (at 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do not need to show perfection of each trait, simply control of each trai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6A77-D3F7-4AF8-8487-15667F4EE0A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PA is a grade 8 assessment.  The placement of the test was not based on good assessment practice but on logistics and tim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A826-F125-44C0-96B1-B1CA299EEC0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and listening lends itself to evaluation by a teacher in the classroom and not a large scale standardized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5 – Ability to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portion does match up quite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portion does match up somewhat but the vagueness of the outcomes can be challenging and using only one program – Write Traits to measure it has its limi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318D-3CD7-4D50-A7B0-BA9705A6684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PA is long and high stressed.  Done individually where curriculum emphasizes a lot of group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udents would never read 8 passages in 90 minutes.  What happens in a classroom is one or maybe two passages are read in an hour.  This would be accompanied by discussion, reflection and possibly some writing.  Lastly – Multiple choice implies one correct answer.  English teachers tend to suggest that varied answers are possible as long as students can support their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is a longer process for most in class.  Graphic organizers to organize thoughts and concepts. Opportunities are given to write and re-write drafts while individually conferencing with them and only then is a piece finis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words or terms often used that have not been addressed at this point in students’ academic care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 Credit cards, British tea story,  dog as protagonist</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F27A-27BE-49FE-A423-8354C7BDD46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B887-C8F8-434D-A757-FC8AB8E71A8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ads to an assessment / curriculum disconnect and that simply is not going to give you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HOUSING THE STUDENTS, AT BEST, FOR A GRADE 8 EXAM THAT HAPPENS 5 MONTHS LATER.</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9B69-1B0D-4E72-8061-D0D4964251A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and Listening, research not logistically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alue to measuring these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systems ch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our own assessment or review the one we buy from Alberta a lot better.  Some cultural bias in vocabulary and context.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C899-E72F-4E82-93FB-3637087EB42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F4B1-49D0-414F-AE7B-14CB04181DD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is also skewed by EAL students and students transferring in from French district.  They usually are unsuccessful the first time through the assessment.</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D4D4-0557-4567-BC53-8C02CFF7F77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pecs on page 5 (at 100%),   Reading standards on page 14 (at 125%)</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92FD-8E11-4B3D-B238-DB70DF3D258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A36C8-B84F-4A1F-A957-3629E586E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9D346-717C-4AB0-8134-95FAB27C9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86B65-777A-4337-84DA-BBE410943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DCBDE-C22E-44BB-B046-187B2F18B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C07B2-268E-46A1-A4EA-8DF86482B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2CDB8-7E85-40DE-BADB-DFAB25CB7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BA2D5-B0B4-4A38-BF0B-03F15F753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25523-2DFE-4DB5-887B-80522F924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2922F-4935-40BF-96BD-F917120A1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1755A-68DC-4558-BBA5-85B787F75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C0B7F-4F3B-4BAA-9DA8-C4E65A2C0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83A1A-F18E-4F30-BE38-3602C4830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8B044-F7B7-4D67-BB74-222EFBC2C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C661A-5B1D-4BD2-9046-2D24A0055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AB3BC-8738-4DFF-8C62-ADB5D4805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EF7B8-A060-4AD1-8287-B1A2E8047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51806-259F-43EE-88E2-8E891EB0C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2B706-DADE-44F9-AD03-05D8F11644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13B7A-8967-49FD-86F1-F68C8593F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6B0D3-27BD-4D11-8A88-B0D5C7AC3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FA258-38C7-46A3-A130-C3B48A03E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704E0-2BB8-46AE-9017-9AB75CE33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45E95-EDC7-45EA-BCF8-10939A59F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C2079-644D-4E4C-AEA2-40E1A5836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915AB-5F59-49EB-99DC-2019D442C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EA46E-BD8F-4B59-BF66-CEC6CCAFE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941B2-CF8A-4495-A223-F15489D72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3E85C-3C01-4A3C-A0E9-5FA95DF44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BC6FC8-6A80-4AAE-953C-5E2BBED73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FDD7D6-120A-4E9B-AD8C-1A1B01285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AF126-A44F-4154-B3DA-EE2D8B449B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BB354-5A29-48A1-B90F-B3D991B84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A2ABB-F774-41CB-8595-E4F8698C9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135D4-3893-41C6-BD14-43653BB02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D4F9B-0C95-49F3-B03D-652652335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A2980-A534-4131-A20D-659F47601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C9A39-8684-4304-B0C3-7B3F069ABD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99D6C-002C-4363-BB2B-8FD2B28CE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C8CB9-A83D-48FA-B36D-14AA1ABF4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B899E-F50F-43CF-8B3D-1EFF6470D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0CAC4-ECF0-40C6-86B3-E891245C4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DA9055-1AB4-442F-8B62-2FA220F3AF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996CA3-8866-4BC2-A632-18C1114BDF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71D1C6-5E59-4D95-A441-DBF27126EA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C23D-6855-40E8-A11E-ABD65DDE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C494F-71F8-4151-B324-A8DBF3C7E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2AF06-4DE3-41C9-ABD9-C0A86F1217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35121-035A-42ED-BCBA-4708F8C03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9F970-60D3-4562-B590-31A90A0CB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1214F-B061-4046-BDFC-675790025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B7FB4-8EA4-495E-BD23-7CB80A670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5141D-BE0E-4DAD-8AFD-FC935B315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31C76-0230-4DC0-8547-DB6FF90D3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4C5C1-1206-416A-979F-485700B38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35B9DA-6D0C-45A7-8C8F-8093DAD8F3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B9320-A5EF-44CE-AFED-65D49EF16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227105-F2A6-41DE-93F4-3E2BEA8011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8CE2C9-2B1C-46CE-A20C-E4B11E9D70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2FD896-9A12-443C-A02C-9CE54EC824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FF1D4F-DC69-407F-B179-493E111EC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68596-9C77-424B-AB0F-C046D776C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2F3D9-D292-42DB-9B71-7F21722BF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3BC021-CCF3-40B6-BC72-52D0B70778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532A9-D0C0-4C09-8B0E-87369DEB9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876C8-CC56-4610-9F1F-FAA9CD5DF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EA1C5-C3ED-4F23-B58E-25263EDC9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4E8C9-EB52-41C1-9697-124291F47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D7CF7-7AB7-4EE6-96DC-74D72608F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8C2AC5-47D9-427D-8988-C36CD83B32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EF6912-B3A8-41D2-8319-64F4CEB93D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6CC4F7-F8E1-4DD9-B611-DEDE4C6AD3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19FA8D-AB19-4F2A-A3A0-895E3926F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2EB714-2506-4C99-95DE-CBCECCAF0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7EEB93-4E71-45A3-B498-A975B16B7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EB523-6FB8-434C-93EF-EF51537D5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3A67F9-60B0-415C-AACA-49E14CB548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E774C-2DB4-4131-A4CF-53D98877F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98FFD-2903-4FB2-A876-F18E9DA2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4565B-10DA-42F1-9B1F-03FBBBB768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E641A-7B5A-495A-AFCB-D6782AFCA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37B34-2467-454A-943B-80D22EFE27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950884-9D9F-4EEC-AE66-D22BCE0F09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95B778-3FA4-4415-8479-6ABC66FE90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FCDA68-0258-45D4-9CD4-91C5A7A1DA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F70715-6AF3-4138-BBBD-A7EB9D78AF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C46E63-3ABC-4943-9EE6-FD98C59F10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2D7D4-9154-4A89-9507-A68BD0CB10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48E6A-3E6B-4A06-BE30-8643C79C1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6C6AB-83BC-4D70-93DD-A006FF3B7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086874-1730-4489-A941-76AF8AB09F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0A350-A853-472C-BA6A-ABCF9F755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312D96-D9C0-4A39-A4EB-300209A42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C81BE-6370-48C6-B4B5-8AD54A304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ED9BFC-1102-4BFF-92A1-CEDA9B74E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5C1B26-8CE9-4810-92AF-9714A854AC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19ED3E-3A41-440E-8643-06467631F6C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C515-E3ED-4A85-83D4-B86938F0CD9D}"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9B9D-5406-4D3E-9EDA-D5B6E5CE2D2B}"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E09F-656A-4F00-A79B-EEB469789C35}"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0574-A2E7-4C42-AA06-D64FE31A13DB}"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7A17-FD90-47A1-B9EF-A3A01DE555EF}"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6997-B269-417D-86B2-6D9FEC1C732D}"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CC4B-9388-48F5-A796-902216880815}"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7678-CB2C-40C1-943F-A982F0292EF4}"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ELPA-R-Test-Specifications-2011-2012%5B1%5D.pdf" TargetMode="External"/><Relationship Id="rId2" Type="http://schemas.openxmlformats.org/officeDocument/2006/relationships/hyperlink" Target="file:///Curriculum-ReadingandWritingAchievementStandards-Nine.pdf"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nb.ca/0000/anglophone-e.asp#e" TargetMode="External"/><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ELPA-R-Test-Specifications-2011-2012%5B1%5D.pdf" TargetMode="External"/><Relationship Id="rId2" Type="http://schemas.openxmlformats.org/officeDocument/2006/relationships/hyperlink" Target="file:///Curriculum-ReadingandWritingAchievementStandards-Nine.pdf"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Content Placeholder 3" descr="test3.jpg"/>
          <p:cNvPicPr/>
          <p:nvPr/>
        </p:nvPicPr>
        <p:blipFill>
          <a:blip r:embed="rId1"/>
          <a:stretch/>
        </p:blipFill>
        <p:spPr>
          <a:xfrm>
            <a:off x="144792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218960"/>
            <a:ext cx="8229600" cy="5257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Reading and Viewing</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6 – Students will be expected to respond personally to a range of texts. (p.16)</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express reactions to and opinions about print and visual materials. (p.199)</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ff0000"/>
                </a:solidFill>
                <a:latin typeface="Lucida Sans Unicode"/>
              </a:rPr>
              <a:t>READING “between the lines”</a:t>
            </a:r>
            <a:endParaRPr b="0" lang="en-US" sz="2700" spc="-1" strike="noStrike">
              <a:solidFill>
                <a:srgbClr val="000000"/>
              </a:solidFill>
              <a:latin typeface="Lucida Sans Unicode"/>
            </a:endParaRPr>
          </a:p>
        </p:txBody>
      </p:sp>
      <p:pic>
        <p:nvPicPr>
          <p:cNvPr id="398" name="Title 2" descr=""/>
          <p:cNvPicPr/>
          <p:nvPr/>
        </p:nvPicPr>
        <p:blipFill>
          <a:blip r:embed="rId1"/>
          <a:stretch/>
        </p:blipFill>
        <p:spPr>
          <a:xfrm>
            <a:off x="195120" y="268200"/>
            <a:ext cx="8747280" cy="1158840"/>
          </a:xfrm>
          <a:prstGeom prst="rect">
            <a:avLst/>
          </a:prstGeom>
          <a:ln w="0">
            <a:noFill/>
          </a:ln>
        </p:spPr>
      </p:pic>
      <p:sp>
        <p:nvSpPr>
          <p:cNvPr id="399" name="TextBox 3"/>
          <p:cNvSpPr/>
          <p:nvPr/>
        </p:nvSpPr>
        <p:spPr>
          <a:xfrm>
            <a:off x="4419720" y="624852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218960"/>
            <a:ext cx="82296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Reading and Viewing</a:t>
            </a:r>
            <a:endParaRPr b="0" lang="en-US" sz="3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7 – Students will be expected to respond critically to a range of texts, applying their understanding of language, form and genre. (p. 16)</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understand the effect of language , style and format on print and visual materials. (p.199)</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ff0000"/>
                </a:solidFill>
                <a:latin typeface="Lucida Sans Unicode"/>
              </a:rPr>
              <a:t>READING “beyond the lines”</a:t>
            </a:r>
            <a:endParaRPr b="0" lang="en-US" sz="2700" spc="-1" strike="noStrike">
              <a:solidFill>
                <a:srgbClr val="000000"/>
              </a:solidFill>
              <a:latin typeface="Lucida Sans Unicode"/>
            </a:endParaRPr>
          </a:p>
        </p:txBody>
      </p:sp>
      <p:pic>
        <p:nvPicPr>
          <p:cNvPr id="401" name="Title 2" descr=""/>
          <p:cNvPicPr/>
          <p:nvPr/>
        </p:nvPicPr>
        <p:blipFill>
          <a:blip r:embed="rId1"/>
          <a:stretch/>
        </p:blipFill>
        <p:spPr>
          <a:xfrm>
            <a:off x="195120" y="268200"/>
            <a:ext cx="8747280" cy="1158840"/>
          </a:xfrm>
          <a:prstGeom prst="rect">
            <a:avLst/>
          </a:prstGeom>
          <a:ln w="0">
            <a:noFill/>
          </a:ln>
        </p:spPr>
      </p:pic>
      <p:sp>
        <p:nvSpPr>
          <p:cNvPr id="402" name="TextBox 3"/>
          <p:cNvSpPr/>
          <p:nvPr/>
        </p:nvSpPr>
        <p:spPr>
          <a:xfrm>
            <a:off x="4419720" y="63244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100" spc="-1" strike="noStrike">
              <a:solidFill>
                <a:srgbClr val="464646"/>
              </a:solidFill>
              <a:latin typeface="Lucida Sans Unicode"/>
            </a:endParaRPr>
          </a:p>
        </p:txBody>
      </p:sp>
      <p:pic>
        <p:nvPicPr>
          <p:cNvPr id="404" name="Picture 2" descr="C:\Users\steevscg\Pictures\test5.jpg"/>
          <p:cNvPicPr/>
          <p:nvPr/>
        </p:nvPicPr>
        <p:blipFill>
          <a:blip r:embed="rId1"/>
          <a:stretch/>
        </p:blipFill>
        <p:spPr>
          <a:xfrm>
            <a:off x="1523880" y="1752480"/>
            <a:ext cx="6400800" cy="44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533520" y="1447560"/>
            <a:ext cx="8229600" cy="2971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lang="en-US" sz="2700" spc="-1" strike="noStrike" u="sng">
                <a:solidFill>
                  <a:srgbClr val="ff8119"/>
                </a:solidFill>
                <a:uFillTx/>
                <a:latin typeface="Lucida Sans Unicode"/>
                <a:hlinkClick r:id="rId1"/>
              </a:rPr>
              <a:t>Writing </a:t>
            </a:r>
            <a:r>
              <a:rPr b="0" lang="en-US" sz="2700" spc="-1" strike="noStrike">
                <a:solidFill>
                  <a:srgbClr val="000000"/>
                </a:solidFill>
                <a:latin typeface="Lucida Sans Unicode"/>
              </a:rPr>
              <a:t>portion consists of 2 sections – Writing I and Writing I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igns perfectly with the Writing Achievement </a:t>
            </a:r>
            <a:r>
              <a:rPr b="0" lang="en-US" sz="2700" spc="-1" strike="noStrike" u="sng">
                <a:solidFill>
                  <a:srgbClr val="ff8119"/>
                </a:solidFill>
                <a:uFillTx/>
                <a:latin typeface="Lucida Sans Unicode"/>
                <a:hlinkClick r:id="rId2"/>
              </a:rPr>
              <a:t>Standards</a:t>
            </a:r>
            <a:r>
              <a:rPr b="0" lang="en-US" sz="2700" spc="-1" strike="noStrike">
                <a:solidFill>
                  <a:srgbClr val="000000"/>
                </a:solidFill>
                <a:latin typeface="Lucida Sans Unicode"/>
              </a:rPr>
              <a:t> – The 6 traits of wri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Title 2" descr=""/>
          <p:cNvPicPr/>
          <p:nvPr/>
        </p:nvPicPr>
        <p:blipFill>
          <a:blip r:embed="rId3"/>
          <a:stretch/>
        </p:blipFill>
        <p:spPr>
          <a:xfrm>
            <a:off x="450720" y="122400"/>
            <a:ext cx="8242560" cy="1341360"/>
          </a:xfrm>
          <a:prstGeom prst="rect">
            <a:avLst/>
          </a:prstGeom>
          <a:ln w="0">
            <a:noFill/>
          </a:ln>
        </p:spPr>
      </p:pic>
      <p:sp>
        <p:nvSpPr>
          <p:cNvPr id="407" name="TextBox 3"/>
          <p:cNvSpPr/>
          <p:nvPr/>
        </p:nvSpPr>
        <p:spPr>
          <a:xfrm>
            <a:off x="4343400" y="6324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218960"/>
            <a:ext cx="8229600" cy="5257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Lucida Sans Unicode"/>
              </a:rPr>
              <a:t>Writing and Representing</a:t>
            </a:r>
            <a:endParaRPr b="0" lang="en-US" sz="3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CO# 8 – Students will be expected to use writing and other forms of representation to explore, clarify, and reflect on their thoughts, feelings, experiences, and learning; and to use their imaginations. (p. 16)</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ic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udents will be expected to write and use other means to express thoughts and feelings. (p. 199)</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	</a:t>
            </a:r>
            <a:r>
              <a:rPr b="1" lang="en-US" sz="2500" spc="-1" strike="noStrike">
                <a:solidFill>
                  <a:srgbClr val="000000"/>
                </a:solidFill>
                <a:latin typeface="Lucida Sans Unicode"/>
              </a:rPr>
              <a:t>	</a:t>
            </a:r>
            <a:r>
              <a:rPr b="1" lang="en-US" sz="2500" spc="-1" strike="noStrike">
                <a:solidFill>
                  <a:srgbClr val="000000"/>
                </a:solidFill>
                <a:latin typeface="Lucida Sans Unicode"/>
              </a:rPr>
              <a:t>	</a:t>
            </a:r>
            <a:r>
              <a:rPr b="1" lang="en-US" sz="2500" spc="-1" strike="noStrike">
                <a:solidFill>
                  <a:srgbClr val="ff0000"/>
                </a:solidFill>
                <a:latin typeface="Lucida Sans Unicode"/>
              </a:rPr>
              <a:t>Content / Organization</a:t>
            </a:r>
            <a:endParaRPr b="0" lang="en-US" sz="2500" spc="-1" strike="noStrike">
              <a:solidFill>
                <a:srgbClr val="000000"/>
              </a:solidFill>
              <a:latin typeface="Lucida Sans Unicode"/>
            </a:endParaRPr>
          </a:p>
        </p:txBody>
      </p:sp>
      <p:pic>
        <p:nvPicPr>
          <p:cNvPr id="409" name="Title 2" descr=""/>
          <p:cNvPicPr/>
          <p:nvPr/>
        </p:nvPicPr>
        <p:blipFill>
          <a:blip r:embed="rId1"/>
          <a:stretch/>
        </p:blipFill>
        <p:spPr>
          <a:xfrm>
            <a:off x="195120" y="268200"/>
            <a:ext cx="8747280" cy="1158840"/>
          </a:xfrm>
          <a:prstGeom prst="rect">
            <a:avLst/>
          </a:prstGeom>
          <a:ln w="0">
            <a:noFill/>
          </a:ln>
        </p:spPr>
      </p:pic>
      <p:sp>
        <p:nvSpPr>
          <p:cNvPr id="410"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218960"/>
            <a:ext cx="82296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Writing and Representing</a:t>
            </a:r>
            <a:endParaRPr b="0" lang="en-US" sz="3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9 – Students will be expected to create texts collaboratively and independently, using a variety of forms for a range of audiences and purposes. (p. 16)</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produce written and other types of creative work individually and in groups. (p. 199)</a:t>
            </a: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Organization</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195120" y="268200"/>
            <a:ext cx="8747280" cy="1158840"/>
          </a:xfrm>
          <a:prstGeom prst="rect">
            <a:avLst/>
          </a:prstGeom>
          <a:ln w="0">
            <a:noFill/>
          </a:ln>
        </p:spPr>
      </p:pic>
      <p:sp>
        <p:nvSpPr>
          <p:cNvPr id="413"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04920" y="1218960"/>
            <a:ext cx="861048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Lucida Sans Unicode"/>
              </a:rPr>
              <a:t>Writing and Representing</a:t>
            </a:r>
            <a:endParaRPr b="0" lang="en-US" sz="3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CO# 10 – Students will be expected to use a range of strategies to develop effective writing and other ways of representing, and to enhance clarity, precision and effectiveness. (p. 16)</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icatio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udents will be expected to use effective style and format (including spelling, grammar and punctuation) in writing and other forms of expression. (p. 199)</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	</a:t>
            </a:r>
            <a:r>
              <a:rPr b="1" lang="en-US" sz="2400" spc="-1" strike="noStrike">
                <a:solidFill>
                  <a:srgbClr val="ff0000"/>
                </a:solidFill>
                <a:latin typeface="Lucida Sans Unicode"/>
              </a:rPr>
              <a:t>Word Choice/Voice/Sentence Structure/Conventions</a:t>
            </a:r>
            <a:endParaRPr b="0" lang="en-US" sz="2400" spc="-1" strike="noStrike">
              <a:solidFill>
                <a:srgbClr val="000000"/>
              </a:solidFill>
              <a:latin typeface="Lucida Sans Unicode"/>
            </a:endParaRPr>
          </a:p>
        </p:txBody>
      </p:sp>
      <p:pic>
        <p:nvPicPr>
          <p:cNvPr id="415" name="Title 2" descr=""/>
          <p:cNvPicPr/>
          <p:nvPr/>
        </p:nvPicPr>
        <p:blipFill>
          <a:blip r:embed="rId1"/>
          <a:stretch/>
        </p:blipFill>
        <p:spPr>
          <a:xfrm>
            <a:off x="195120" y="268200"/>
            <a:ext cx="8747280" cy="1158840"/>
          </a:xfrm>
          <a:prstGeom prst="rect">
            <a:avLst/>
          </a:prstGeom>
          <a:ln w="0">
            <a:noFill/>
          </a:ln>
        </p:spPr>
      </p:pic>
      <p:sp>
        <p:nvSpPr>
          <p:cNvPr id="416"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C:\Users\steevscg\Pictures\test1.jpg"/>
          <p:cNvPicPr/>
          <p:nvPr/>
        </p:nvPicPr>
        <p:blipFill>
          <a:blip r:embed="rId1"/>
          <a:stretch/>
        </p:blipFill>
        <p:spPr>
          <a:xfrm>
            <a:off x="990720" y="990720"/>
            <a:ext cx="70102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ten at end of first semester of grade 9</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A is based on outcomes at the end of </a:t>
            </a:r>
            <a:r>
              <a:rPr b="0" lang="en-US" sz="2700" spc="-1" strike="noStrike" u="sng">
                <a:solidFill>
                  <a:srgbClr val="ff0000"/>
                </a:solidFill>
                <a:uFillTx/>
                <a:latin typeface="Lucida Sans Unicode"/>
              </a:rPr>
              <a:t>grade 8. </a:t>
            </a:r>
            <a:r>
              <a:rPr b="0" lang="en-US" sz="2700" spc="-1" strike="noStrike">
                <a:solidFill>
                  <a:srgbClr val="000000"/>
                </a:solidFill>
                <a:latin typeface="Lucida Sans Unicode"/>
              </a:rPr>
              <a:t>(OECD’s definition of functional lite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sessment done in grade 9 for logistical purposes to assure information received at the high school  level. </a:t>
            </a: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195120" y="268200"/>
            <a:ext cx="8498160" cy="1158840"/>
          </a:xfrm>
          <a:prstGeom prst="rect">
            <a:avLst/>
          </a:prstGeom>
          <a:ln w="0">
            <a:noFill/>
          </a:ln>
        </p:spPr>
      </p:pic>
      <p:sp>
        <p:nvSpPr>
          <p:cNvPr id="420" name="TextBox 3"/>
          <p:cNvSpPr/>
          <p:nvPr/>
        </p:nvSpPr>
        <p:spPr>
          <a:xfrm>
            <a:off x="4343400" y="594360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ra McKinnon – Director, Assessment and Evaluation Bra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240" y="1481040"/>
            <a:ext cx="89154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peaking and Listening – GCO #1-3,   </a:t>
            </a:r>
            <a:r>
              <a:rPr b="0" lang="en-US" sz="2800" spc="-1" strike="noStrike">
                <a:solidFill>
                  <a:srgbClr val="000000"/>
                </a:solidFill>
                <a:latin typeface="Lucida Sans Unicode"/>
              </a:rPr>
              <a:t>	</a:t>
            </a:r>
            <a:r>
              <a:rPr b="0" lang="en-US" sz="2800" spc="-1" strike="noStrike">
                <a:solidFill>
                  <a:srgbClr val="ff0000"/>
                </a:solidFill>
                <a:latin typeface="Lucida Sans Unicode"/>
              </a:rPr>
              <a:t>NO</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ing and Viewing – GCO #5 </a:t>
            </a:r>
            <a:r>
              <a:rPr b="0" lang="en-US" sz="2000" spc="-1" strike="noStrike">
                <a:solidFill>
                  <a:srgbClr val="000000"/>
                </a:solidFill>
                <a:latin typeface="Lucida Sans Unicode"/>
              </a:rPr>
              <a:t>research</a:t>
            </a:r>
            <a:r>
              <a:rPr b="0" lang="en-US" sz="2800" spc="-1" strike="noStrike">
                <a:solidFill>
                  <a:srgbClr val="ff0000"/>
                </a:solidFill>
                <a:latin typeface="Lucida Sans Unicode"/>
              </a:rPr>
              <a:t>	</a:t>
            </a:r>
            <a:r>
              <a:rPr b="0" lang="en-US" sz="2800" spc="-1" strike="noStrike">
                <a:solidFill>
                  <a:srgbClr val="ff0000"/>
                </a:solidFill>
                <a:latin typeface="Lucida Sans Unicode"/>
              </a:rPr>
              <a:t>NO</a:t>
            </a:r>
            <a:endParaRPr b="0" lang="en-US" sz="28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ing and Viewing – GCO #4, 6, 7 </a:t>
            </a:r>
            <a:r>
              <a:rPr b="0" lang="en-US" sz="2800" spc="-1" strike="noStrike">
                <a:solidFill>
                  <a:srgbClr val="000000"/>
                </a:solidFill>
                <a:latin typeface="Lucida Sans Unicode"/>
              </a:rPr>
              <a:t>	</a:t>
            </a:r>
            <a:r>
              <a:rPr b="0" lang="en-US" sz="2800" spc="-1" strike="noStrike">
                <a:solidFill>
                  <a:srgbClr val="ff0000"/>
                </a:solidFill>
                <a:latin typeface="Lucida Sans Unicode"/>
              </a:rPr>
              <a:t>Y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riting and Viewing – GCO # 8 – 10 </a:t>
            </a:r>
            <a:r>
              <a:rPr b="0" lang="en-US" sz="2800" spc="-1" strike="noStrike">
                <a:solidFill>
                  <a:srgbClr val="ff0000"/>
                </a:solidFill>
                <a:latin typeface="Lucida Sans Unicode"/>
              </a:rPr>
              <a:t>somewhat</a:t>
            </a:r>
            <a:endParaRPr b="0" lang="en-US" sz="2800" spc="-1" strike="noStrike">
              <a:solidFill>
                <a:srgbClr val="000000"/>
              </a:solidFill>
              <a:latin typeface="Lucida Sans Unicode"/>
            </a:endParaRPr>
          </a:p>
        </p:txBody>
      </p:sp>
      <p:pic>
        <p:nvPicPr>
          <p:cNvPr id="42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603360" y="907920"/>
            <a:ext cx="7937280" cy="2689200"/>
          </a:xfrm>
          <a:prstGeom prst="rect">
            <a:avLst/>
          </a:prstGeom>
          <a:ln w="0">
            <a:noFill/>
          </a:ln>
        </p:spPr>
      </p:pic>
      <p:sp>
        <p:nvSpPr>
          <p:cNvPr id="379"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Scott Steeves</a:t>
            </a:r>
            <a:br>
              <a:rPr sz="2500"/>
            </a:b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28240" y="1481040"/>
            <a:ext cx="89154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PA ensures that students have specific skills on which we focus (figures of speech, imagery, levels of reading etc.) But only Reading and Writing.</a:t>
            </a:r>
            <a:endParaRPr b="0" lang="en-US" sz="28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thod of evaluation does not fit with current pedagogical method of instruction</a:t>
            </a:r>
            <a:endParaRPr b="0" lang="en-US" sz="2800" spc="-1" strike="noStrike">
              <a:solidFill>
                <a:srgbClr val="000000"/>
              </a:solidFill>
              <a:latin typeface="Lucida Sans Unicode"/>
            </a:endParaRPr>
          </a:p>
          <a:p>
            <a:pPr lvl="2" marL="841680" indent="-22392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ading 8 passages in 90 minutes</a:t>
            </a:r>
            <a:endParaRPr b="0" lang="en-US" sz="2400" spc="-1" strike="noStrike">
              <a:solidFill>
                <a:srgbClr val="000000"/>
              </a:solidFill>
              <a:latin typeface="Lucida Sans Unicode"/>
            </a:endParaRPr>
          </a:p>
          <a:p>
            <a:pPr lvl="2" marL="841680" indent="-22392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riting process in one 1 hour (twice)</a:t>
            </a: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57480" indent="-2502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Vocabulary / Context issues</a:t>
            </a:r>
            <a:endParaRPr b="0" lang="en-US" sz="3000" spc="-1" strike="noStrike">
              <a:solidFill>
                <a:srgbClr val="000000"/>
              </a:solidFill>
              <a:latin typeface="Lucida Sans Unicode"/>
            </a:endParaRPr>
          </a:p>
        </p:txBody>
      </p:sp>
      <p:pic>
        <p:nvPicPr>
          <p:cNvPr id="424"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240" y="1481040"/>
            <a:ext cx="89154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though writing is assessed based on the Write Traits program, the curriculum was not designed to be assessed by one program or rubric.</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f the assessment were to measure the reading competencies of our students, it would not place the exam in grade 9, not assess in January and not rely on elementary programs pushed by a publisher.</a:t>
            </a:r>
            <a:endParaRPr b="0" lang="en-US" sz="2800" spc="-1" strike="noStrike">
              <a:solidFill>
                <a:srgbClr val="000000"/>
              </a:solidFill>
              <a:latin typeface="Lucida Sans Unicode"/>
            </a:endParaRPr>
          </a:p>
        </p:txBody>
      </p:sp>
      <p:pic>
        <p:nvPicPr>
          <p:cNvPr id="426"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28240" y="1481040"/>
            <a:ext cx="89154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When the curriculum was written, the members of the curriculum committee were more interested in unifying the teaching approach and less inclined towards the assessment.  </a:t>
            </a:r>
            <a:endParaRPr b="0" lang="en-US" sz="3000" spc="-1" strike="noStrike">
              <a:solidFill>
                <a:srgbClr val="000000"/>
              </a:solidFill>
              <a:latin typeface="Lucida Sans Unicode"/>
            </a:endParaRPr>
          </a:p>
        </p:txBody>
      </p:sp>
      <p:pic>
        <p:nvPicPr>
          <p:cNvPr id="428"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C:\Users\steevscg\Pictures\test7.jpg"/>
          <p:cNvPicPr/>
          <p:nvPr/>
        </p:nvPicPr>
        <p:blipFill>
          <a:blip r:embed="rId1"/>
          <a:stretch/>
        </p:blipFill>
        <p:spPr>
          <a:xfrm>
            <a:off x="0" y="2057400"/>
            <a:ext cx="9007560" cy="3166920"/>
          </a:xfrm>
          <a:prstGeom prst="rect">
            <a:avLst/>
          </a:prstGeom>
          <a:ln w="0">
            <a:noFill/>
          </a:ln>
        </p:spPr>
      </p:pic>
      <p:pic>
        <p:nvPicPr>
          <p:cNvPr id="430" name="Title 4" descr=""/>
          <p:cNvPicPr/>
          <p:nvPr/>
        </p:nvPicPr>
        <p:blipFill>
          <a:blip r:embed="rId2"/>
          <a:stretch/>
        </p:blipFill>
        <p:spPr>
          <a:xfrm>
            <a:off x="384120" y="122400"/>
            <a:ext cx="8510760" cy="134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47920"/>
            <a:ext cx="8686800" cy="4843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ly assesses Reading and Wri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es measure fundamental skills of Reading and Writing at a “literate”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 believe it is a good systems check to see where students and schools are in terms of basic ski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A needs to be created here in NB and be more in line with current pedagogy. </a:t>
            </a:r>
            <a:endParaRPr b="0" lang="en-US" sz="2700" spc="-1" strike="noStrike">
              <a:solidFill>
                <a:srgbClr val="000000"/>
              </a:solidFill>
              <a:latin typeface="Lucida Sans Unicode"/>
            </a:endParaRPr>
          </a:p>
        </p:txBody>
      </p:sp>
      <p:pic>
        <p:nvPicPr>
          <p:cNvPr id="432"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C:\Users\steevscg\Pictures\test6.jpg"/>
          <p:cNvPicPr/>
          <p:nvPr/>
        </p:nvPicPr>
        <p:blipFill>
          <a:blip r:embed="rId1"/>
          <a:stretch/>
        </p:blipFill>
        <p:spPr>
          <a:xfrm>
            <a:off x="457200" y="457200"/>
            <a:ext cx="8381880" cy="578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st $250,000</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pproximately $11/stud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0720" y="268200"/>
            <a:ext cx="8242560" cy="1158840"/>
          </a:xfrm>
          <a:prstGeom prst="rect">
            <a:avLst/>
          </a:prstGeom>
          <a:ln w="0">
            <a:noFill/>
          </a:ln>
        </p:spPr>
      </p:pic>
      <p:sp>
        <p:nvSpPr>
          <p:cNvPr id="436" name="TextBox 3"/>
          <p:cNvSpPr/>
          <p:nvPr/>
        </p:nvSpPr>
        <p:spPr>
          <a:xfrm>
            <a:off x="4267080" y="6019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ra McKinnon – Director, Assessment and Evaluation Bra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des information to allow schools to intervene with struggling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s a sense of accountability and that’s O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s a standard of lite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chers that attend the marking session state that it is the best PD they ever receive!</a:t>
            </a:r>
            <a:endParaRPr b="0" lang="en-US" sz="2700" spc="-1" strike="noStrike">
              <a:solidFill>
                <a:srgbClr val="000000"/>
              </a:solidFill>
              <a:latin typeface="Lucida Sans Unicode"/>
            </a:endParaRPr>
          </a:p>
        </p:txBody>
      </p:sp>
      <p:pic>
        <p:nvPicPr>
          <p:cNvPr id="438"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6840" y="1481040"/>
            <a:ext cx="84582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ata can be skewed as all SEP-I, SEP M and  students who did not write the assessment are counted as incomple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st teachers know, after a short time with their students, who will pass the assessment. (With a scary degree of accu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ggling readers have a hard time.  They do not need an ELPA to tell them this.</a:t>
            </a: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2" name="Picture 2" descr="C:\Users\steevscg\Pictures\test2.jpg"/>
          <p:cNvPicPr/>
          <p:nvPr/>
        </p:nvPicPr>
        <p:blipFill>
          <a:blip r:embed="rId1"/>
          <a:stretch/>
        </p:blipFill>
        <p:spPr>
          <a:xfrm>
            <a:off x="-38160" y="0"/>
            <a:ext cx="91821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47920"/>
            <a:ext cx="8229600" cy="495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assessment of students’ literacy abilities based 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lantic Canada English Language Arts Curriculum Outcomes (grade 8)</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New Brunswick Provincial Achievement Standards in Reading and Writing (End of grade 8)</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0" y="1481040"/>
            <a:ext cx="91440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lantic Canada English Language Arts Curriculum – High Schoo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ading and Writing Achievement Standards Curriculum – Grade 9</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PA-R Policy Docume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PA-R Test Specifications 2011-1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8119"/>
                </a:solidFill>
                <a:uFillTx/>
                <a:latin typeface="Lucida Sans Unicode"/>
                <a:hlinkClick r:id="rId1"/>
              </a:rPr>
              <a:t>www.gnb.ca/0000/anglophone-e.asp#e</a:t>
            </a:r>
            <a:r>
              <a:rPr b="0" lang="en-US" sz="2000" spc="-1" strike="noStrike">
                <a:solidFill>
                  <a:srgbClr val="39639d"/>
                </a:solidFill>
                <a:latin typeface="Lucida Sans Unicode"/>
              </a:rPr>
              <a:t> </a:t>
            </a:r>
            <a:r>
              <a:rPr b="0" lang="en-US" sz="2000" spc="-1" strike="noStrike">
                <a:solidFill>
                  <a:srgbClr val="000000"/>
                </a:solidFill>
                <a:latin typeface="Lucida Sans Unicode"/>
              </a:rPr>
              <a:t>(Accessed April 22, 2012)</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ecial thanks to Sandra McKinnon, Director of the Assessment and Evaluation Branch for the Department of Educat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anks to the many teachers who contributed their point of view</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assure a measure of functional literacy, especially in reading and writing, as defined by the Council of Atlantic Ministers of Education and Training (CAMET) with support from the Organization of Economic Cooperation and Development (OEC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sures that high school students meet the minimum grade 8 reading and writing standards upon gradu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partment of Education uses the data to provide a perspective on trends in school, district, and the provincial achievement in meeting literacy standard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2" descr=""/>
          <p:cNvPicPr/>
          <p:nvPr/>
        </p:nvPicPr>
        <p:blipFill>
          <a:blip r:embed="rId1"/>
          <a:stretch/>
        </p:blipFill>
        <p:spPr>
          <a:xfrm>
            <a:off x="225360" y="268200"/>
            <a:ext cx="8467920" cy="1158840"/>
          </a:xfrm>
          <a:prstGeom prst="rect">
            <a:avLst/>
          </a:prstGeom>
          <a:ln w="0">
            <a:noFill/>
          </a:ln>
        </p:spPr>
      </p:pic>
      <p:sp>
        <p:nvSpPr>
          <p:cNvPr id="386" name="TextBox 3"/>
          <p:cNvSpPr/>
          <p:nvPr/>
        </p:nvSpPr>
        <p:spPr>
          <a:xfrm>
            <a:off x="4495680" y="586728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ra McKinnon – Director, Assessment and Evaluation Bra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100" spc="-1" strike="noStrike">
              <a:solidFill>
                <a:srgbClr val="464646"/>
              </a:solidFill>
              <a:latin typeface="Lucida Sans Unicode"/>
            </a:endParaRPr>
          </a:p>
        </p:txBody>
      </p:sp>
      <p:pic>
        <p:nvPicPr>
          <p:cNvPr id="388" name="Picture 2" descr="C:\Users\steevscg\Pictures\test4.jpg"/>
          <p:cNvPicPr/>
          <p:nvPr/>
        </p:nvPicPr>
        <p:blipFill>
          <a:blip r:embed="rId1"/>
          <a:stretch/>
        </p:blipFill>
        <p:spPr>
          <a:xfrm>
            <a:off x="838080" y="1676520"/>
            <a:ext cx="755028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A – Written by grade 9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R – Written by grade 11/12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ten each year at the end of Januar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sts of two pa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ing Component – 90 m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Writing components – 60 min. each</a:t>
            </a: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33520" y="1447560"/>
            <a:ext cx="8229600" cy="297180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lang="en-US" sz="2700" spc="-1" strike="noStrike" u="sng">
                <a:solidFill>
                  <a:srgbClr val="ff8119"/>
                </a:solidFill>
                <a:uFillTx/>
                <a:latin typeface="Lucida Sans Unicode"/>
                <a:hlinkClick r:id="rId1"/>
              </a:rPr>
              <a:t>Reading</a:t>
            </a:r>
            <a:r>
              <a:rPr b="0" lang="en-US" sz="2700" spc="-1" strike="noStrike">
                <a:solidFill>
                  <a:srgbClr val="000000"/>
                </a:solidFill>
                <a:latin typeface="Lucida Sans Unicode"/>
              </a:rPr>
              <a:t> portion consists of 50 multiple choice questions on a variety of texts. (This year’s assessment had 8 passages)</a:t>
            </a: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igns perfectly with the Reading Achievement </a:t>
            </a:r>
            <a:r>
              <a:rPr b="0" lang="en-US" sz="2700" spc="-1" strike="noStrike" u="sng">
                <a:solidFill>
                  <a:srgbClr val="ff8119"/>
                </a:solidFill>
                <a:uFillTx/>
                <a:latin typeface="Lucida Sans Unicode"/>
                <a:hlinkClick r:id="rId2"/>
              </a:rPr>
              <a:t>Standards</a:t>
            </a: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Title 2" descr=""/>
          <p:cNvPicPr/>
          <p:nvPr/>
        </p:nvPicPr>
        <p:blipFill>
          <a:blip r:embed="rId3"/>
          <a:stretch/>
        </p:blipFill>
        <p:spPr>
          <a:xfrm>
            <a:off x="450720" y="122400"/>
            <a:ext cx="8242560" cy="1341360"/>
          </a:xfrm>
          <a:prstGeom prst="rect">
            <a:avLst/>
          </a:prstGeom>
          <a:ln w="0">
            <a:noFill/>
          </a:ln>
        </p:spPr>
      </p:pic>
      <p:sp>
        <p:nvSpPr>
          <p:cNvPr id="393" name="TextBox 3"/>
          <p:cNvSpPr/>
          <p:nvPr/>
        </p:nvSpPr>
        <p:spPr>
          <a:xfrm>
            <a:off x="4343400" y="60199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218960"/>
            <a:ext cx="82296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Reading and Viewing</a:t>
            </a:r>
            <a:endParaRPr b="0" lang="en-US" sz="3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4 – Students will be expected to select, read, and view, with understanding a range of literature, information, media, and visual texts. (p. 16)</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select and demonstrate understanding of a wide range of print and visual materials. (p.199)</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ff0000"/>
                </a:solidFill>
                <a:latin typeface="Lucida Sans Unicode"/>
              </a:rPr>
              <a:t>READING “the lines”</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195120" y="268200"/>
            <a:ext cx="8747280" cy="1158840"/>
          </a:xfrm>
          <a:prstGeom prst="rect">
            <a:avLst/>
          </a:prstGeom>
          <a:ln w="0">
            <a:noFill/>
          </a:ln>
        </p:spPr>
      </p:pic>
      <p:sp>
        <p:nvSpPr>
          <p:cNvPr id="396"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0:31:08Z</dcterms:created>
  <dc:creator>ladmin</dc:creator>
  <dc:description/>
  <dc:language>en-US</dc:language>
  <cp:lastModifiedBy>Mike</cp:lastModifiedBy>
  <dcterms:modified xsi:type="dcterms:W3CDTF">2012-07-15T00:09:27Z</dcterms:modified>
  <cp:revision>50</cp:revision>
  <dc:subject/>
  <dc:title>Slide 1</dc:title>
</cp:coreProperties>
</file>